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FD642-D340-4597-B57F-2B0AC94AC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F018B-F916-4B51-AB70-7320B8986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2E66-A806-42A8-A58E-97E0A06A7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5B03-2F05-4E64-BC0F-264F52B15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69C4-EE71-40AA-A96D-4AD9B51A0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0B3B-27C6-442A-84CB-2DE2D424B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BE35-AE5B-4365-A6C3-579774989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924C-7189-443B-981C-1A0AC627F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14D8-2F73-464C-9FEA-7B23A5AD3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039A-132D-49B2-82BB-92273CFD3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1F99-B15D-4412-B3A4-67000F12A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AAD8-7C51-4002-BFFE-B0FAED8D7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A934-2B28-4CF0-8735-A3295DD71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D93A-7661-4D56-BCB5-64053E26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DA6C5-EFF4-438F-BDEC-CAF0020FD8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Kiara Zapan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182880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Angie Yousry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05740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Angie Yousr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36232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iara Zapant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3"/>
          <p:cNvSpPr/>
          <p:nvPr/>
        </p:nvSpPr>
        <p:spPr>
          <a:xfrm>
            <a:off x="152280" y="25909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57"/>
          <p:cNvSpPr/>
          <p:nvPr/>
        </p:nvSpPr>
        <p:spPr>
          <a:xfrm>
            <a:off x="76320" y="2971800"/>
            <a:ext cx="17524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i nombre es Angie. Yo tengo catorce años. Yo vivo en Nueva York. Yo estoy feliz y dulce.  Te amo cantar y nadar. Yo tengo cuatro hermanas. Yo soy de Egipto . Mi amo de familia y amigos . Espero oír de usted pronto. Adiós amigos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82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4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6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7"/>
          <p:cNvSpPr/>
          <p:nvPr/>
        </p:nvSpPr>
        <p:spPr>
          <a:xfrm>
            <a:off x="2819520" y="3276720"/>
            <a:ext cx="50292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Muy bien gracias. Sí, quiero y puedo ir a tu casa, Gracias mi simpatica y dulce amiga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2514600"/>
            <a:ext cx="43434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….¿Cómo estan amigas? ¿Quieren venir a mi casa a las  7 de trienta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1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4T18:27:28Z</dcterms:modified>
  <cp:revision>108</cp:revision>
  <dc:subject/>
  <dc:title>Profile</dc:title>
</cp:coreProperties>
</file>